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20.pct" ContentType="image/x-pict"/>
  <Override PartName="/ppt/media/image13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4C43-B037-4DAE-9F37-CDF20C9C7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dissolves in water easily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ar or non-polar molecule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about Oxygen? Does that dissolve in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rcise = acidic in musc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carbonic ac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ctic ac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dy uses buffers to counter act th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dissolves in water easily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ar or non-polar molecule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about Oxygen? Does that dissolve in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dissolves in water easily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ar or non-polar molecule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about Oxygen? Does that dissolve in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350FB-66A5-4A1C-AA23-7F2DBFE070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D35D7-E2FE-452F-B109-6F4AFA3D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1176E-87C0-4DEC-8F32-933AA7AA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A39F2-4EE0-437B-AA48-0CF71A8FEE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B8677-B5E2-498B-858E-8D57843D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9D552-53DC-402D-83AD-D062712E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2D733-DEDE-4EE1-8A7F-0CF2784A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355B4-BD6A-42E9-927C-B9C0FF859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A8160-3A9A-45E4-BFF7-1A447D5A1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DF982-B1C3-40F8-86CA-B081E06B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A877D-DF69-48D6-9BA0-4C44E7BE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CC96F-7DE0-4C93-A0B2-77DBD96E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F1AA-26CD-46B7-8A9B-DD56F24BFFCA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4-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4-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52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6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Users/kfoglia/Kim&apos;s%20NEW%20WORK/Division%20Ave%20-%20Levittown/AP%20Bio/MOVIES/Ch3/03_02WaterStructure_A.swf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Users/kfoglia/Kim&apos;s%20NEW%20WORK/Division%20Ave%20-%20Levittown/AP%20Bio/MOVIES/Ch3/03_03WaterTransport_A.swf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Chapter 3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ater— The Elixir of Life!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11702" t="0" r="9000" b="0"/>
          <a:stretch/>
        </p:blipFill>
        <p:spPr>
          <a:xfrm>
            <a:off x="6477120" y="609480"/>
            <a:ext cx="239688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ydrophobic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773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ydrophobic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ubstances do not have affinity for H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polar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or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non-polar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on-ionic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5800" y="3962520"/>
            <a:ext cx="4410000" cy="2423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0" t="10763" r="0" b="0"/>
          <a:stretch/>
        </p:blipFill>
        <p:spPr>
          <a:xfrm>
            <a:off x="6019920" y="3300480"/>
            <a:ext cx="2631960" cy="3355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977480" y="632376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fat (triglycerol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he special case of ic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ost (all?) substances are more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ense when they are solid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ut not water…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ce </a:t>
            </a:r>
            <a:r>
              <a:rPr b="1" lang="en-US" sz="3000" spc="-1" strike="noStrike" u="sng">
                <a:solidFill>
                  <a:srgbClr val="660066"/>
                </a:solidFill>
                <a:uFillTx/>
                <a:latin typeface="Arial"/>
              </a:rPr>
              <a:t>floats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!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 bonds form a crystal with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loose structure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69216" b="11934"/>
          <a:stretch/>
        </p:blipFill>
        <p:spPr>
          <a:xfrm>
            <a:off x="6553080" y="2743200"/>
            <a:ext cx="2210040" cy="2857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048120" y="4524480"/>
            <a:ext cx="2708280" cy="22572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838080" y="4454640"/>
            <a:ext cx="158616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ce float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5972"/>
          <a:stretch/>
        </p:blipFill>
        <p:spPr>
          <a:xfrm>
            <a:off x="981000" y="2130480"/>
            <a:ext cx="718200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y is “ice floats” important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ceans &amp; lakes don’t freeze solid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f ice sank…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ventually all ponds, lakes &amp; even ocean would freeze solid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uring summer, only upper few inches would thaw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urface ice insulates water below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llowing life to survive the winter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asonal turnover of lak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ycling nutrient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pecific he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 has high specific he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ue to H bonding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 resists changes in temperatur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akes a lot to heat it u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akes a lot to cool it dow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 moderates temperatures on Earth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1277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vaporative cooling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4648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rganisms rely on heat of vaporization to remove he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04920" y="3174840"/>
            <a:ext cx="5257800" cy="35308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884920" y="1612800"/>
            <a:ext cx="303048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ater forms ion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Hydrogen ion (H</a:t>
            </a:r>
            <a:r>
              <a:rPr b="1" lang="en-US" sz="26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) splits off from water to leave a hydroxide ion (</a:t>
            </a:r>
            <a:r>
              <a:rPr b="1" lang="en-US" sz="2600" spc="-1" strike="noStrike" baseline="30000">
                <a:solidFill>
                  <a:srgbClr val="0f116a"/>
                </a:solidFill>
                <a:latin typeface="Arial"/>
              </a:rPr>
              <a:t>-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OH) 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H</a:t>
            </a:r>
            <a:r>
              <a:rPr b="1" lang="en-US" sz="26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0 ----&gt; H</a:t>
            </a:r>
            <a:r>
              <a:rPr b="1" lang="en-US" sz="3000" spc="-1" strike="noStrike" baseline="30000">
                <a:solidFill>
                  <a:srgbClr val="660066"/>
                </a:solidFill>
                <a:latin typeface="Arial"/>
              </a:rPr>
              <a:t>+</a:t>
            </a: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  +  </a:t>
            </a:r>
            <a:r>
              <a:rPr b="1" lang="en-US" sz="2600" spc="-1" strike="noStrike" baseline="30000">
                <a:solidFill>
                  <a:srgbClr val="660066"/>
                </a:solidFill>
                <a:latin typeface="Arial"/>
              </a:rPr>
              <a:t>-</a:t>
            </a: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OH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f concentration of 2 ions is equal, 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ater is </a:t>
            </a:r>
            <a:r>
              <a:rPr b="1" lang="en-US" sz="2600" spc="-1" strike="noStrike" u="sng">
                <a:solidFill>
                  <a:srgbClr val="660066"/>
                </a:solidFill>
                <a:uFillTx/>
                <a:latin typeface="Arial"/>
              </a:rPr>
              <a:t>neutral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f [</a:t>
            </a: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H</a:t>
            </a:r>
            <a:r>
              <a:rPr b="1" lang="en-US" sz="3000" spc="-1" strike="noStrike" baseline="30000">
                <a:solidFill>
                  <a:srgbClr val="660066"/>
                </a:solidFill>
                <a:latin typeface="Arial"/>
              </a:rPr>
              <a:t>+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]</a:t>
            </a: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&gt; [</a:t>
            </a:r>
            <a:r>
              <a:rPr b="1" lang="en-US" sz="2600" spc="-1" strike="noStrike" baseline="30000">
                <a:solidFill>
                  <a:srgbClr val="660066"/>
                </a:solidFill>
                <a:latin typeface="Arial"/>
              </a:rPr>
              <a:t>-</a:t>
            </a: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OH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], water is </a:t>
            </a:r>
            <a:r>
              <a:rPr b="1" lang="en-US" sz="2600" spc="-1" strike="noStrike" u="sng">
                <a:solidFill>
                  <a:srgbClr val="660066"/>
                </a:solidFill>
                <a:uFillTx/>
                <a:latin typeface="Arial"/>
              </a:rPr>
              <a:t>acidic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f [</a:t>
            </a:r>
            <a:r>
              <a:rPr b="1" lang="en-US" sz="2600" spc="-1" strike="noStrike" baseline="30000">
                <a:solidFill>
                  <a:srgbClr val="660066"/>
                </a:solidFill>
                <a:latin typeface="Arial"/>
              </a:rPr>
              <a:t>-</a:t>
            </a: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OH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] &gt; [</a:t>
            </a: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H</a:t>
            </a:r>
            <a:r>
              <a:rPr b="1" lang="en-US" sz="3000" spc="-1" strike="noStrike" baseline="30000">
                <a:solidFill>
                  <a:srgbClr val="660066"/>
                </a:solidFill>
                <a:latin typeface="Arial"/>
              </a:rPr>
              <a:t>+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],</a:t>
            </a: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ater is </a:t>
            </a:r>
            <a:r>
              <a:rPr b="1" lang="en-US" sz="2600" spc="-1" strike="noStrike" u="sng">
                <a:solidFill>
                  <a:srgbClr val="660066"/>
                </a:solidFill>
                <a:uFillTx/>
                <a:latin typeface="Arial"/>
              </a:rPr>
              <a:t>basic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660066"/>
                </a:solidFill>
                <a:uFillTx/>
                <a:latin typeface="Arial"/>
              </a:rPr>
              <a:t>pH scale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= how acidic or basic a solution i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 Scal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n pure water only 1 water molecule in every 554 million is dissociated.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very small amount of io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[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] or [O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] is 10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-7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[H</a:t>
            </a:r>
            <a:r>
              <a:rPr b="1" lang="en-US" sz="32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] [OH</a:t>
            </a:r>
            <a:r>
              <a:rPr b="1" lang="en-US" sz="3200" spc="-1" strike="noStrike" baseline="30000">
                <a:solidFill>
                  <a:srgbClr val="cc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] = 10</a:t>
            </a:r>
            <a:r>
              <a:rPr b="1" lang="en-US" sz="3200" spc="-1" strike="noStrike" baseline="30000">
                <a:solidFill>
                  <a:srgbClr val="cc0000"/>
                </a:solidFill>
                <a:latin typeface="Arial"/>
              </a:rPr>
              <a:t>-14</a:t>
            </a:r>
            <a:endParaRPr b="1" lang="en-US" sz="32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H scale is based on this equati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 Scal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4267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In neutral solution [H</a:t>
            </a:r>
            <a:r>
              <a:rPr b="1" lang="en-US" sz="28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] = 10</a:t>
            </a:r>
            <a:r>
              <a:rPr b="1" lang="en-US" sz="2800" spc="-1" strike="noStrike" baseline="30000">
                <a:solidFill>
                  <a:srgbClr val="0f116a"/>
                </a:solidFill>
                <a:latin typeface="Arial"/>
              </a:rPr>
              <a:t>-7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 pH = 7</a:t>
            </a:r>
            <a:endParaRPr b="1" lang="en-US" sz="28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Values for pH </a:t>
            </a:r>
            <a:r>
              <a:rPr b="1" i="1" lang="en-US" sz="2800" spc="-1" strike="noStrike" u="sng">
                <a:solidFill>
                  <a:srgbClr val="0f116a"/>
                </a:solidFill>
                <a:uFillTx/>
                <a:latin typeface="Arial"/>
              </a:rPr>
              <a:t>decline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 as [H</a:t>
            </a:r>
            <a:r>
              <a:rPr b="1" lang="en-US" sz="28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] </a:t>
            </a:r>
            <a:r>
              <a:rPr b="1" i="1" lang="en-US" sz="2800" spc="-1" strike="noStrike" u="sng">
                <a:solidFill>
                  <a:srgbClr val="0f116a"/>
                </a:solidFill>
                <a:uFillTx/>
                <a:latin typeface="Arial"/>
              </a:rPr>
              <a:t>increase</a:t>
            </a:r>
            <a:endParaRPr b="1" lang="en-US" sz="28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Acids </a:t>
            </a:r>
            <a:endParaRPr b="1" lang="en-US" sz="28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adding acid increases [H</a:t>
            </a:r>
            <a:r>
              <a:rPr b="1" lang="en-US" sz="2600" spc="-1" strike="noStrike" baseline="30000">
                <a:solidFill>
                  <a:srgbClr val="40458c"/>
                </a:solidFill>
                <a:latin typeface="Arial"/>
              </a:rPr>
              <a:t>+]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Bases</a:t>
            </a:r>
            <a:endParaRPr b="1" lang="en-US" sz="28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adding base increases [OH</a:t>
            </a:r>
            <a:r>
              <a:rPr b="1" lang="en-US" sz="2600" spc="-1" strike="noStrike" baseline="30000">
                <a:solidFill>
                  <a:srgbClr val="40458c"/>
                </a:solidFill>
                <a:latin typeface="Arial"/>
              </a:rPr>
              <a:t>-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]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5575"/>
          <a:stretch/>
        </p:blipFill>
        <p:spPr>
          <a:xfrm>
            <a:off x="5105520" y="533520"/>
            <a:ext cx="390024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y are we studying water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ll life occurs in water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nside &amp; outside the cel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05120" y="3137040"/>
            <a:ext cx="564012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 &amp; Biolog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H of a neutral solution = 7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Acidic solutions 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H &lt; 7 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Basic solutions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= 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H &gt; 7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Most biological fluids have pH 6 – 8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pH values in human stomach can reach 2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Each pH unit represents a </a:t>
            </a:r>
            <a:r>
              <a:rPr b="1" lang="en-US" sz="2600" spc="-1" strike="noStrike" u="sng">
                <a:solidFill>
                  <a:srgbClr val="0f116a"/>
                </a:solidFill>
                <a:uFillTx/>
                <a:latin typeface="Arial"/>
              </a:rPr>
              <a:t>10-fold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difference in H</a:t>
            </a:r>
            <a:r>
              <a:rPr b="1" lang="en-US" sz="26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&amp; OH</a:t>
            </a:r>
            <a:r>
              <a:rPr b="1" lang="en-US" sz="2600" spc="-1" strike="noStrike" baseline="30000">
                <a:solidFill>
                  <a:srgbClr val="0f116a"/>
                </a:solidFill>
                <a:latin typeface="Arial"/>
              </a:rPr>
              <a:t>-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concentrations.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mall change in pH actually indicates a substantial change in [H</a:t>
            </a:r>
            <a:r>
              <a:rPr b="1" lang="en-US" sz="24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] &amp; [OH</a:t>
            </a:r>
            <a:r>
              <a:rPr b="1" lang="en-US" sz="2400" spc="-1" strike="noStrike" baseline="30000">
                <a:solidFill>
                  <a:srgbClr val="40458c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]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ater is a polar molecul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e special properties of water make life on Earth possibl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e chemical behavior of water governs how organisms functi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unchlin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y Questions?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723888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ce Fishing in Barrow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69" name="Silver Streak:Users:kfoglia:Kim's NEW WORK:Division Ave - Levittown:Attachments:icefishinginbarrow.mpe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9273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hemistry of water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ater is polar molecul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emember polar covalent bon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+ &amp; – pol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9598" t="5666" r="11683" b="6494"/>
          <a:stretch/>
        </p:blipFill>
        <p:spPr>
          <a:xfrm>
            <a:off x="4038480" y="2941560"/>
            <a:ext cx="487692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11428" t="0" r="11428" b="4441"/>
          <a:stretch/>
        </p:blipFill>
        <p:spPr>
          <a:xfrm>
            <a:off x="4363920" y="2157480"/>
            <a:ext cx="4703760" cy="46242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hemistry of water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 molecules form H bonds with each other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+ attracted to –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reates a sticky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olecule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2520" y="6216120"/>
            <a:ext cx="3589920" cy="64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Let’s go to the video tape!”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Arial"/>
              </a:rPr>
              <a:t>(</a:t>
            </a:r>
            <a:r>
              <a:rPr b="0" lang="en-US" sz="1600" spc="-1" strike="noStrike" u="sng">
                <a:solidFill>
                  <a:srgbClr val="6f89f7"/>
                </a:solidFill>
                <a:uFillTx/>
                <a:latin typeface="Arial"/>
                <a:hlinkClick r:id="rId2"/>
              </a:rPr>
              <a:t>play movie here</a:t>
            </a:r>
            <a:r>
              <a:rPr b="0" lang="en-US" sz="1600" spc="-1" strike="noStrike" u="sng">
                <a:solidFill>
                  <a:srgbClr val="0f116a"/>
                </a:solidFill>
                <a:uFillTx/>
                <a:latin typeface="Arial"/>
              </a:rPr>
              <a:t>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170000" y="4363920"/>
            <a:ext cx="2335320" cy="11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hes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467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 bonding between H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 creates </a:t>
            </a:r>
            <a:r>
              <a:rPr b="1" lang="en-US" sz="3000" spc="-1" strike="noStrike" u="sng">
                <a:solidFill>
                  <a:srgbClr val="660066"/>
                </a:solidFill>
                <a:uFillTx/>
                <a:latin typeface="Arial"/>
              </a:rPr>
              <a:t>cohesio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water is “sticky”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urface tensio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rinking straw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an you suck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sugar up a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straw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ow does H</a:t>
            </a:r>
            <a:r>
              <a:rPr b="1" lang="en-US" sz="36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 get to top of tree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ranspiration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7162920" cy="4297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6216120"/>
            <a:ext cx="3886200" cy="64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Let’s go to the video tape!”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Arial"/>
              </a:rPr>
              <a:t>(</a:t>
            </a:r>
            <a:r>
              <a:rPr b="0" lang="en-US" sz="1600" spc="-1" strike="noStrike" u="sng">
                <a:solidFill>
                  <a:srgbClr val="6f89f7"/>
                </a:solidFill>
                <a:uFillTx/>
                <a:latin typeface="Arial"/>
                <a:hlinkClick r:id="rId2"/>
              </a:rPr>
              <a:t>play movie here</a:t>
            </a:r>
            <a:r>
              <a:rPr b="0" lang="en-US" sz="1600" spc="-1" strike="noStrike" u="sng">
                <a:solidFill>
                  <a:srgbClr val="0f116a"/>
                </a:solidFill>
                <a:uFillTx/>
                <a:latin typeface="Arial"/>
              </a:rPr>
              <a:t>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dhes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 molecules form H bonds with other substances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apillary actio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eniscu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water climbs up fibe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x. paper tow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rcRect l="0" t="0" r="0" b="3597"/>
          <a:stretch/>
        </p:blipFill>
        <p:spPr>
          <a:xfrm>
            <a:off x="1371600" y="3613320"/>
            <a:ext cx="3429000" cy="31683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ater is the solvent of lif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 is a good solvent due to its polarity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olar H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 molecules surround + &amp; – io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olvents dissolve solutes creating aqueous solutio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334120" y="3508200"/>
            <a:ext cx="3352680" cy="32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ydrophilic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77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ydrophilic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ubstances have affinity for H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polar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or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non-polar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onic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562720" y="3481560"/>
            <a:ext cx="3352680" cy="3224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rcRect l="0" t="0" r="0" b="3597"/>
          <a:stretch/>
        </p:blipFill>
        <p:spPr>
          <a:xfrm>
            <a:off x="1447920" y="3813120"/>
            <a:ext cx="304776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20:13:53Z</dcterms:created>
  <dc:creator>Kim B. Foglia</dc:creator>
  <dc:description>All Rights Reserved. Copyright 2003. WD Interactive.</dc:description>
  <cp:keywords>WD Interactive Web Development</cp:keywords>
  <dc:language>en-US</dc:language>
  <cp:lastModifiedBy>Kim Foglia</cp:lastModifiedBy>
  <cp:lastPrinted>2005-09-13T10:22:23Z</cp:lastPrinted>
  <dcterms:modified xsi:type="dcterms:W3CDTF">2005-09-13T13:20:05Z</dcterms:modified>
  <cp:revision>199</cp:revision>
  <dc:subject>Introduction to the Internet &amp; Web sites</dc:subject>
  <dc:title>Small Business Success on the Web</dc:title>
</cp:coreProperties>
</file>